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9937D-45CE-46E6-AC1B-8D7D3A9A2C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9496A-A5AF-44E9-A4AE-661E247E7930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46ACCAB-8B9B-441A-AC32-741B667D5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3E837E-7DD3-4CAF-8781-92200AC9B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52F6392-09BD-402A-A1C9-A41419F78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AA087A5-D609-4D0A-880C-7A506C94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4F9D45-5DCA-4DBF-BD9F-1847030B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C44A0D0-7A72-49B5-A89C-3D560CD2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0374F33-5429-4689-913E-A3F06E344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F469661-4615-49D9-AE23-5CD5D5B02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CACD4DA-354E-45D3-84D0-BE51AC3D8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38E85CF-26A1-4C92-B838-4C9C16B95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E3287-C2CE-46C9-BA3E-C68233EF27F2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25A8B99-7595-405B-BF34-50A5D132E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5D12235-3C5E-4DAE-B805-35B4F28C4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FD2EA35-870C-461B-9748-A02A12F63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B7A960F-19D4-47F9-BEC9-AA43685E8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721C619-6BB0-4FA9-AD1D-D15DAD3AE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68B44BE-107C-4D96-851E-DB267E428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CDEDE45-7674-4837-BC3B-713E9363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666B1CE-93E9-414C-89D5-1958B4B70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C33987E-3577-4944-9B7C-B5B6E0B35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7413F97-35F4-4999-87DC-CB8900FD9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0F30D-A9D4-4F7B-9AA0-754AA4C9FC2A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79B498F-BC41-47D3-A90D-E942C90CA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12A9A19-66B9-4EFC-A789-11B6CA51C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A88644B-7573-468E-89FC-136F8F023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593FACB-A856-4E54-B631-25EC1076C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2BDA0E2-3556-4168-BEEA-455CE869D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96D520A-B808-4DEB-9846-76DD7640E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1A5CAD0-9FBC-476F-8C8F-6004AD66F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A5F9784-F373-46B9-91AE-DC9837D7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3732A40-DB54-4013-AD49-D7D5ADDA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F0D519B-300E-4701-88FD-5FF82FFA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7422EA-6F54-4EDF-9FE5-D6BFC77E7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0BA7B20-40AD-4036-8A74-1B4348988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D8D8A24-1909-4224-B92B-590F62932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4E34ABD-994A-49FF-BED0-F8BFA947E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ABBF2B-C506-4D40-B5A9-39A9DDCEB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9BABBF-68CA-43F3-9390-42580B50B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B989CA-FECC-4614-B3FD-8819637BD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9972E6-6CCC-4D1D-A8EB-5367E67F1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2EBF46-378E-4F51-A57E-12C96E0E6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2B7F7D-555C-4AC6-9EAE-049039CA4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7AEE9-4AC6-4F7C-A5B0-78A3991A2D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8C13F6-CD9F-4DF4-A15C-2EA4CC90B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D73CF0-A5C6-41BF-932F-4F7A97DE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E076AB-187D-47BD-A5DA-8B6EB88B7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54135B-C6BC-4EE7-A21F-F776633D4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064574-4E16-4120-A657-CB95FBAAA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2F75C0-72C7-45B6-A40D-F5A93324C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7F2171-77F6-4E04-B69D-16D849C07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0B60EC-06D1-4BA1-A83B-F8D0782D0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2F0360-4E0C-4EB0-A509-D4722CFD8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964C7A-04D1-460A-9D0E-CDEBDF860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D86B4-CB24-422E-B491-020119E44DD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1D74BD-D04D-454D-BBB3-FEB56C69D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8C1691-0C45-4695-9E31-B7F90E76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36F3CE-255E-4922-AE31-F46A0D357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511CD2-8ECF-4BAC-AA12-3AB99121A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F3D378-BA40-47A2-92EE-510B0FBB7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A114DB-659C-4EA5-92CD-1185E5F8D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35743C-5AC5-4E6F-A4C9-E6DC7C7AA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3B0F12-907F-4915-8D3C-8C06560D2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D4DAD1-1180-4EE3-A8DE-D735646B6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00B0C8-73EC-42FA-BB30-FD22675BC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2C73A-0E37-46DA-99CD-2FC1A262A5A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F2EC75-4EA3-4808-9870-FD677A2A8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F862E6-FFC0-42E1-AF23-BBB9B7A8E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06CB3D-EE3C-47B5-8494-4CE9ED620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1EA601-52F0-4999-8C3C-B00017602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7E04E7-6439-4582-8A78-CF805898C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05430B-06A6-480F-9F43-C7DAE9467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021D5A-C22E-4F3A-B741-E561E1087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62BD8A-B583-402C-A7AE-3272BD491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C6E8D3-EC51-4900-AB39-0239609C2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B22552-EFBD-4234-8F60-109A873B1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D024B-F509-4210-BD74-EB1443B89EB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668A8E-BC69-4DA0-8069-26C7D6EDA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050718-23FF-4D93-B7D4-353A1C483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0BD111-8982-4FFF-A9B5-98A837030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853789-3C6C-42AA-B1FB-FC4B79480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CA6574-0F09-4BF7-8232-78F0192DF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C81061-EA48-48E4-9090-9E83E795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0385A4-B760-42F3-9AA7-C6768398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22AC46-D6E0-4286-BF33-A1C134B9F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0DE7EA-EA51-450E-BD4B-9ED94D6CA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33E3BA-0B57-4492-A79D-B0FFC6826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FA419-5C9F-42AC-B5BA-17E544CF3BA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6BAB1B-EE52-4121-8E2A-9D66EBEB8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0CA955-9AB1-4C27-9AB4-7001FC518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A51D30-E3F7-4A77-8C03-6C9E2CF2E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85678A-C023-4729-80CE-816C3220D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CF3DE1-962C-4DD6-B053-25739E301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DB1023-D54B-4708-8D15-73EAF3559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FED0AE-05DA-4B09-B634-E91000D83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464ACF-CCB7-4C73-946C-57169B746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718638-AD28-4885-A4D3-836869F1F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D86D38-D80E-4707-8AFF-1CEC4FE1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96C35-D72A-4F19-B8D7-C306BB4A763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6A8916-3365-44B5-86D8-A44F97390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9FA13F-C8CD-415F-AFEA-E54591D80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CE2F8C-BCD5-4714-8576-964AC1F17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93A586-E50A-4455-99F8-5B81CD355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33481F-ECF7-476A-8865-C46337C36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9FB24A-0A40-4CB5-A7E1-84534F545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16E420-27E2-4C5C-A171-A72DEC5CE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C5A58C-D44A-49F3-8FC1-A7B6B4F7B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C3EDDE-06C5-4C9B-8360-A235E2C31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EE8CE2-B0FC-4925-9F8E-108CF870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ACA6D-F543-4420-AD3A-19E847ADAFC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CD8652-E846-416F-BC80-EB52D6EF8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E29672-2649-406D-894E-CFA5889ED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B7DA5B-E2DF-41BC-A6BF-4BB0E95E8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757D59-370C-4A2C-9FC9-6FE2D40AC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31C71C-E950-4558-8C0E-997F533A7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7173D49-A5D6-4FAD-B604-FD688A290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C087F8A-3E89-4433-AC5E-645B1C258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426DEA-E551-46C7-9586-672DA4D62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0D85A70-7C20-4ADA-B62C-AB44AEBAF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DE5DB59-1DC6-463A-A185-CCEA841FD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2118E-7E93-4DBD-B368-8DE994C31862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6B924E8-7C92-41D6-A222-079BCE33C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84EE1FD-4E75-440A-89F7-7D79C677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B928387-290D-4760-8203-26223704C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806487A-CCB8-459F-81AE-7E4179B73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E6EF3EA-54F8-4388-8DF4-405237554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2BD5A2-F011-4306-973C-37A27AEB6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86D7138-7202-4C6D-A6C6-F350B05C5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157DBC5-9DF7-42F7-9A0E-6180A0108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596FFB8-917E-4C12-89D6-C0C9DF31D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21DB974-3DE6-40F7-B79A-852397E50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fe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E6752-EE13-4EA6-8680-8F2C0E62061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fe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8A7EB-B713-48F4-AE0E-51C298D97C7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fe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1406F-C163-4F62-9229-89BC9D2A9C6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fe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08FF4-A6CB-47B2-8A7E-780355A82E6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fe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73E6E-3286-4ACD-A9CE-3B9EB36498B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fe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D3127-DD67-4796-866A-BE682E9327D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fe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0AA98-FFAF-453E-8101-0AA0BAE9F90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fe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38F94-75A7-468A-AD49-FF999CA5622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fe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192EE-001A-4D9A-A624-4A2F95D4565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fe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5D2BD-146E-4232-A582-6042DF100E7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fe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19AEF-7E3A-4D33-99CE-08D82F72BDF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Baskerville Old Face"/>
              </a:rPr>
              <a:t>WHYLDE SAFARI PARK</a:t>
            </a: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Baskerville Old Face"/>
              </a:rPr>
              <a:t>Where wildlife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Baskerville Old Face"/>
              </a:rPr>
              <a:t>is closer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Baskerville Old Face"/>
              </a:rPr>
              <a:t>than you think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1T14:21:22Z</dcterms:created>
  <dc:creator>Peter Muir</dc:creator>
  <dc:description/>
  <dc:language>en-US</dc:language>
  <cp:lastModifiedBy>Peter Muir</cp:lastModifiedBy>
  <dcterms:modified xsi:type="dcterms:W3CDTF">2013-04-22T16:59:10Z</dcterms:modified>
  <cp:revision>4</cp:revision>
  <dc:subject/>
  <dc:title>WHYLDE SAFARI PARK</dc:title>
</cp:coreProperties>
</file>